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8B6F-B717-4E05-B296-BAF27452CAE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9848-AC82-4002-8E5E-E378CB8B79C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F7EB-4DDA-4EA8-AA2F-3B9C0930276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FCFE-518D-4E42-9680-9A77FA5B807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D3D3-484D-4DE6-A0B9-AA09848D659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7E41-74DD-4546-BF69-F3DA550477B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5D9B-56A2-4E23-BFF1-9408CF4CC11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92B4E-904E-49DA-8D40-1A28C7267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0289F-E7E1-47C2-BF2E-7186279D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9E702-8675-456B-8309-FBDCFA63C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B3751-C78D-4A26-B2D3-92280F315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D847-C840-4873-80ED-0B916BAA9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B393B-2633-4AEF-B656-F6223551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64D40-B57A-4E54-85A2-824E09D4C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C849-A667-4EBC-ADD7-E6082E68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B915E-8B80-4B52-964B-943A86A7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843B5-6685-4707-A1C0-E75887E9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5387-8D07-496C-AAF2-6A428541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2224-3ACE-44CD-95E9-E252FB771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245C-7C99-4051-851A-5BA1F4411F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resentationmagazine.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 of templates</a:t>
            </a:r>
            <a:endParaRPr b="0" lang="en-US" sz="4400" spc="-1" strike="noStrike">
              <a:solidFill>
                <a:srgbClr val="000000"/>
              </a:solidFill>
              <a:latin typeface="Arial"/>
            </a:endParaRPr>
          </a:p>
        </p:txBody>
      </p:sp>
      <p:sp>
        <p:nvSpPr>
          <p:cNvPr id="105"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are free to use these templates for your personal and business presentations.</a:t>
            </a:r>
            <a:endParaRPr b="0" lang="en-US" sz="2000" spc="-1" strike="noStrike">
              <a:solidFill>
                <a:srgbClr val="000000"/>
              </a:solidFill>
              <a:latin typeface="Times New Roman"/>
            </a:endParaRPr>
          </a:p>
        </p:txBody>
      </p:sp>
      <p:sp>
        <p:nvSpPr>
          <p:cNvPr id="106"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Use these templates for your presentation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isplay your presentation on a web site provided that it is not for the purpose of downloading the template.</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you like these templates, we would always appreciate a link back to our website.  Many thank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Arial"/>
              </a:rPr>
              <a:t>Don’t</a:t>
            </a:r>
            <a:endParaRPr b="0" lang="en-US" sz="16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sell or distribute these templates</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Times New Roman"/>
            </a:endParaRPr>
          </a:p>
          <a:p>
            <a:pPr marL="2649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ss off any of our created content as your own work</a:t>
            </a:r>
            <a:endParaRPr b="0" lang="en-US" sz="1400" spc="-1" strike="noStrike">
              <a:solidFill>
                <a:srgbClr val="000000"/>
              </a:solidFill>
              <a:latin typeface="Times New Roman"/>
            </a:endParaRPr>
          </a:p>
        </p:txBody>
      </p:sp>
      <p:sp>
        <p:nvSpPr>
          <p:cNvPr id="108" name="Text Box 7"/>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You can find many more free templates on the Presentation Magazine website </a:t>
            </a:r>
            <a:r>
              <a:rPr b="0" lang="en-GB" sz="2000" spc="-1" strike="noStrike" u="sng">
                <a:solidFill>
                  <a:srgbClr val="009999"/>
                </a:solidFill>
                <a:uFillTx/>
                <a:latin typeface="Arial"/>
                <a:ea typeface="Arial"/>
                <a:hlinkClick r:id="rId1"/>
              </a:rPr>
              <a:t>www.presentationmagazine.com</a:t>
            </a: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09"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Peter</cp:lastModifiedBy>
  <dcterms:modified xsi:type="dcterms:W3CDTF">2012-04-17T07:26:08Z</dcterms:modified>
  <cp:revision>17</cp:revision>
  <dc:subject/>
  <dc:title>Editable Newspapers Template</dc:title>
</cp:coreProperties>
</file>